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F982-38C3-4FB1-A33D-54B8C693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BDB7-0612-4915-B81D-3B89DF02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857B-BC2C-4744-843C-A8F502D4E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C575-37E8-426C-BCF5-F5B4DB4D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ED64-9C86-462D-A5BB-66C9085D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71B4-E474-49A6-B0C4-80EAF661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5080-6E9C-4B2D-94D8-C23A0044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85FF-1FB5-41D4-BB4E-51073DC3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8814-208F-43BE-A33E-6B652F39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BC20-DE4C-40E9-A588-BB2A4DFA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78F0-4CA8-47C9-A9F4-9DC00A30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3E74-BC41-413B-9353-4A44A5B5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C52D-7C32-4D32-886B-97A125E0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D53B-B339-449F-B0A0-8F644F00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087E-4EFA-4AAD-929A-96DFC90B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B225-E44C-4844-A6BF-899761B1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2F52-A84E-4129-BB97-592F2944E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8723-2C33-4438-96F0-F913DFBA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AF2C-A70B-45F8-AB3B-F2A1785A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947B-A085-40AA-A909-C667666F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35F6-37CC-4BB2-A54A-D84C7C50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3C4C-6992-48A1-848E-696E2328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5D72-F9AF-4B94-BC3E-922F3991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7239-33A0-451E-B0F4-11EA289E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A54A-4CDF-4F39-9496-9D0AA3AFF2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1703-EE67-455D-B7D2-CD7AB39164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42920" y="260280"/>
            <a:ext cx="37256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d9d9ff"/>
                </a:solidFill>
                <a:uFillTx/>
                <a:latin typeface="Comic Sans MS"/>
              </a:rPr>
              <a:t>Ble mae’r asgwrn ?</a:t>
            </a:r>
            <a:endParaRPr b="1" lang="en-US" sz="28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8000" y="907560"/>
            <a:ext cx="835164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1680" y="2637000"/>
            <a:ext cx="67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im ond un o’r brawddegau canlynol sy’n wir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elly ble mae’r asgwrn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414972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Mae’r asgwrn dan y grai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Mae’r asgwrn yn yr ardd neu dan y goed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Mae’r asgwrn dan y graig neu dan y cynted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Nid yw’r asgwrn yn yr ard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907920"/>
            <a:ext cx="820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e Ralph y ci wedi claddu asgwrn, ond nid yw’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fio ym mh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e unai wedi ei gladdu dan graig, dan y cyntedd, yn yr ardd neu dan y goed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372360" y="3284640"/>
            <a:ext cx="2373120" cy="24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9:53:52Z</dcterms:created>
  <dc:creator>Carwyn</dc:creator>
  <dc:description/>
  <dc:language>en-US</dc:language>
  <cp:lastModifiedBy>Carwyn</cp:lastModifiedBy>
  <dcterms:modified xsi:type="dcterms:W3CDTF">2008-12-04T20:15:36Z</dcterms:modified>
  <cp:revision>4</cp:revision>
  <dc:subject/>
  <dc:title>Ble mae’r asgwrn ?</dc:title>
</cp:coreProperties>
</file>